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5DE-7DCD-45AF-9230-DF9DFBEC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D3D-0F28-4CC3-94E3-6028AF90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F6E56-F091-4C34-8405-24BEC7A0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AD21D-9EA3-46EE-9FBC-45C6D042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5347B-1528-445F-81D3-73397074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1869C-5A56-4A94-94CC-E9330E56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F58FF-6577-4FF7-9620-736D1B61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BC5E4-D1FB-437A-B5FD-E51681EB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D9A13-5617-4572-8A7E-E9D1EE1E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78A01-7CDD-4502-AECC-84CD1863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6DC85-433A-48A3-AC91-ACC0C140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9C689-D192-48A7-89DC-000C2031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3EF-5F20-4D7D-81DB-350599DF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68602-7A2E-413A-B59F-F25FA876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AACA7-8BA9-40C4-B21C-68D0D3F9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B0781-9B08-4147-8B52-90BB248E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D4BA9-F7D3-482A-B90E-A51C37CF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12C65-1F70-4325-8809-3AC510AB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D943C-F74C-4582-9698-CE7A5C50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80DB2-20D0-4762-83C4-9045139D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1208C-F8F8-4464-8915-EF7BF543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C351D-1FE4-4AE8-A425-57D2AB31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DDA03-F698-49A6-87CA-9AE9ADF7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7CF-93AA-4FFB-8D3D-1E70DD2A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5A332-34AA-46FE-8472-B3A26AB5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4F768-4BF6-4896-8792-6B53B775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73895-79D9-49DF-BACB-01AFD2D2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0E502-57E2-423E-8BAB-6E1ADD64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85A8F-1863-4894-AF42-D316DBB6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D1DFF-FED2-4FB4-AE9B-02E90578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3D8F9-0FE9-4DCF-B0E7-B58E798C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13974-B8CF-4813-BF9A-0494B2E3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B04C7-F6FE-4DBE-9FC7-7F663845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42596-1F9A-41A3-A5B1-160990D8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5B0C-5C7A-4C08-9BFD-036F0A8B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C9894-29AC-4301-9C51-E86ACEDD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1EC5C-A368-4F3D-B139-A04A80B6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C3F1B-5FF5-4ABD-BB45-131B45A2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1FC41-6431-4BDB-A0AC-8094066D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AFDB2-2302-426B-BD64-90A56F4C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84475-4198-4944-942C-05DACD2E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ACF76-BB9F-4A69-818C-A1DAF15D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4A7FE-33C1-4429-AB7F-43C07D80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3182F-AAF7-4C8D-8788-438EAC26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23CD4-6C09-4581-8602-BD0003FD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3D28-B8F7-4010-A712-248163D1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D267C-4A81-44BA-A41D-F80116B1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39BBD-7F24-4B8C-8E5D-4155D515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CF82B-7A19-401A-8076-AC0DA83B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31248-A0CD-4776-8BB4-012F288F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1AD28-2645-4A74-8701-EB55F115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B39DD-8176-4F77-92C7-557E2EF0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D54A8-B4FC-40D5-BBAE-4BE87B27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8B993-78E0-4DEA-B7EB-20CCC49B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79BB3-08D5-46AD-B8A2-F46509E1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DFA7B-FBFE-4660-B319-B6C3BCC1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0875-7AEA-47E5-B5E7-7BC8B24C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A36A5-F8D4-4C61-87F7-C7C257C7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85A25-2585-4931-A5AB-5B74986B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8E3977-D714-48A9-B212-75F78743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E5855-AF44-42C2-AF1D-90C9491B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F8D39-FFB8-40E7-AC37-A08FFF0D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7FE43-8195-4C8B-B907-83F4117C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1D5CF-A1CE-43D8-B9A9-3CBBC64B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9C83-A8FF-4DD0-8EC4-A4460CC8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A613-7010-4FE1-AA00-33C08D29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1964-2532-439D-B0EB-2F1D40BD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B913-B22C-46B9-ACBC-67F15D26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567-D49A-4A53-B617-4ADE86F0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DC8F-D437-4D66-B1AD-AB1211FE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5E68-2102-4B05-8959-B6BF5D22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68BA-6295-4E12-ABBE-5C5C230B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69B8-9090-46DF-A4C9-9BC7C085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03F6-9A00-4B4F-9FAA-E9C84683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C8F99-2E63-4992-BC99-2E3C435F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54146-0FE2-46C1-8229-B7D9B162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8CE1-6D74-437F-83ED-60DBC22F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7993-3230-4CA5-B00B-7816DB0E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DB05-7EAF-441A-9931-56BA8E0C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01A-0359-4D5B-A4E6-747055DD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180DA-064F-4CB2-B469-303ABA5D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DC1DE-FD86-414D-94A8-78EFC7B9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40C0A-EF12-4ACC-833D-43C02F1D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3087-262E-4573-AB35-A1E41572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8EA16-A649-4D76-A932-A6B9B3AB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BF40-03E8-4E4E-B04B-8333C920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9ABC4-5563-4516-8AEC-6B136109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0DCA1-780C-4BFE-9792-D493F9CF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18066-C2FB-4527-A9BF-36781532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77C3D-3E69-4ED7-BAEA-BFBFE7D1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1E1-5818-49EA-95ED-F166CEDA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E2C0E-B6D5-4791-8A40-99D17F27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C5589-F245-458F-9B9B-1DD74FA2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D1F53-B54F-49D8-B988-8299934F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78EA1-7FE1-45D0-8B29-6C02433C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32AFD-ACCD-4FF7-BCF8-AC099998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59FC2-AE66-4289-B3DC-2D06E400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D4664-11C3-4CD4-8950-0232C71F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EB1A5-2B9F-4C92-9580-9B0690BE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8BFE7-BD6D-44B8-A655-90238E8A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E0659-8A04-4805-BEBE-920CF45E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088-02DF-4940-8800-AFBC466A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19C24-8F68-495E-AF2F-E44DB4F9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07816-8F80-4D57-B587-388B721F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A3678-2727-4EE8-BE61-E59145AC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00B32-54C1-40A1-A0F4-8D8AE3DB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6BDD7-9EC6-4E66-A21B-E89AF00E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E78DC-BAE9-46FC-ADE4-E5ABE5F5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B0049-0202-405E-97E7-98944DC5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C4BD6-F17D-4130-A72F-BFBAF3C8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91224-3A7B-4F97-85D3-F3ED990C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6E4FE-5E49-4957-9528-11D64D01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8EB-71BE-49BF-AF58-DA2ECC0B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EB701-7215-4B9E-9977-7D4238E1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629A9-B56F-45BC-9A06-FBEBAC3C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70ED0-38D2-466A-B82F-66A0E462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F19F3-FEF6-4EB7-8DF2-BB7B099C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E23D4-6AB2-4FE4-9DE6-8CE3375F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EDBBE-C6FA-4A4F-8B77-494016EF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EBAEF-740E-4874-A9CD-1A2C402B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48A74-3860-4FEA-9B21-CAEE47A3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2E10D-909F-4B79-A7CF-C0F72A30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FF740-707D-4840-B133-0B6C7D83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753-2A39-4956-A132-00CF47F6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D9CF4-DD4D-4A0B-9079-C0B49D33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41BD7-C2D0-4815-A4FD-4EBC184A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5EE02-10E4-4C75-A102-6F731530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AB717-2AC3-4E51-B467-86DEA4C9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61564-0F50-4961-B84F-AD208213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F174B-9494-47D3-A476-1434BF61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EDF09-1DD0-401F-8BBA-A2D002E0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86F3F-D6E2-428C-BCEB-C92AFF0A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B0AD6-2DC0-4FA7-AE70-7F1468D4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4BDCA-055A-4C42-8D2E-D6DAF032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53C-F9EB-427C-94A2-13A507A4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D79FC-A74C-46B1-9C52-44A9FB33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98CAE-BACE-4A3C-9161-68B27BB1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D231F-6231-46AB-AD84-95F3ADAC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7C85E-03D3-4A1F-A3DB-F201B746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82C26-68D4-45AD-B110-87442374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80D71-36C8-42B9-8DD8-012D61B4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F8613-C645-4EF6-87C0-AD86B3ED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3C188-0491-4A44-A04A-F05688AB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10157-03AC-4248-9164-9FBC442A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0FFB6-C88E-4B22-9AC3-AD181387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98B-5B20-419B-AA59-48D7109B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D7EBD-E8CB-486F-A1DF-4A8B5C48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DCC65-EF35-4247-8A0E-DFA0F939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B7EE1-E86F-4527-98E8-E9144185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10B78-2A3F-495D-A807-47D5894D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69073-CE65-4D89-AC23-C88B08B6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92E21-99B9-470C-8685-B5216201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87334-6C2A-442E-B10B-5D4DC697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E2C48-FCB5-471F-A489-103B470C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3AAAB-7EA5-4314-AE5C-0A9AC7AE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554B1-4CAF-4028-9C0D-FEB38534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7C13-CF1A-4790-8DE6-3C97739DDF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C62F-3585-4B8D-89E2-9D5EF27251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2266-A6FB-44D4-831C-5A00A292BC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D42A-11AE-49AD-AF8E-A33807FFEE6C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9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76E8-1995-46F2-BE1B-E5AD3A9B1EC3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658F-8F54-490D-AED9-4B67FBB817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72AE-F844-4F8F-AAA0-84CCF95697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A5F4-B33D-4ABC-9141-22B0F6C31E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BC2B-F1D1-4FE9-89DD-40E4DEF6F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6BC3-E7C1-4A3C-AB2E-136E6F7EDC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DD14-1016-4F18-891F-B7C4E094B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086C-7EC2-4864-8006-93632C92A6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E293-54FC-42D1-A54B-4BFAAA97B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b/CHF_coins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upload.wikimedia.org/wikipedia/commons/f/f4/CHF_Banknotes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2/Genf_Cath&#233;drale_St-Pierre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GÈNE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911760" cy="3911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Où manger 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85840" y="2362320"/>
            <a:ext cx="70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Les Tilleuls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(délicieuses pizzas cuites au feu de bois-spécialités italienne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Le bistrot 37°2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(cuisine méditerranéenne- spécialités marocain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Café Fontaine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(cuisine du marché, innovante et créativ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Bamboo Garden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(cuisine de Corée, de Chine, de  Malaisie et d’Indonés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 rot="20313000">
            <a:off x="323640" y="404280"/>
            <a:ext cx="2774880" cy="21733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108000" y="3213000"/>
            <a:ext cx="199548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cc"/>
                </a:solidFill>
                <a:latin typeface="Tahoma"/>
              </a:rPr>
              <a:t>Quelle est le climat dans cette ville d’après les saisons 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395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3828960" cy="287028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267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’h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4788000" y="4610160"/>
            <a:ext cx="2674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’é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Où se procurer de l’argent 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ahoma"/>
              </a:rPr>
              <a:t>Bureaux de Change à Genè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Money &amp; Com SA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pl. de Montbrillant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Migros-Genève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av. Louis-Casaï 2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BNC Change (Suisse) SA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rue de Zurich 3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Euro change SA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rue Paul-Bouchet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Change Cendrier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rue du Cendrier 1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Migros-Genève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rue du Mont-Blanc 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3789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Quelle est la monnaie du pays 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/>
          <p:nvPr/>
        </p:nvSpPr>
        <p:spPr>
          <a:xfrm>
            <a:off x="46836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e franc suisse (CHF) est utilisé par la Suis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 Franc Suisse -------------   0,77 Eu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 Franc Suisse ------------- 1,08 Dol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 Franc Suisse ----------- --4,39 Peso Argent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499px-CHF_coins" descr="Archivo:CHF coin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0360" y="4799160"/>
            <a:ext cx="1619280" cy="1942920"/>
          </a:xfrm>
          <a:prstGeom prst="rect">
            <a:avLst/>
          </a:prstGeom>
          <a:ln w="0">
            <a:noFill/>
          </a:ln>
        </p:spPr>
      </p:pic>
      <p:pic>
        <p:nvPicPr>
          <p:cNvPr id="582" name="CHF_Banknotes" descr="Archivo:CHF Banknote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1484280"/>
            <a:ext cx="1841400" cy="22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ahoma"/>
                <a:ea typeface="Calibri"/>
              </a:rPr>
              <a:t>Où est situé le pays choisi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71760" y="1285920"/>
            <a:ext cx="3071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SUIS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st un pays d'Europe de l'Ouest sans accès à la m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lle est entourée par l’Allemagne, la France, l’Italie, l’Autriche et le Liechtenste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e pays est formé avec 26 cant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a capitale est Ber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2" name="0 Imagen" descr="713px-Europe-Switzerland.svg.png"/>
          <p:cNvPicPr/>
          <p:nvPr/>
        </p:nvPicPr>
        <p:blipFill>
          <a:blip r:embed="rId1"/>
          <a:stretch/>
        </p:blipFill>
        <p:spPr>
          <a:xfrm>
            <a:off x="357120" y="1285920"/>
            <a:ext cx="5612040" cy="4722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cc"/>
                </a:solidFill>
                <a:latin typeface="Tahoma"/>
              </a:rPr>
              <a:t>Où est située la ville choisie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GÈNE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st le deuxième ville du pays avec 188 142 habit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st située sur les berges du lac de Genève au pied des Alp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lle abrite le siège européen des Nations-Un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cc"/>
                </a:solidFill>
                <a:latin typeface="Tahoma"/>
              </a:rPr>
              <a:t>Que faire dans cette ville ?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902520"/>
            <a:ext cx="82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Le Lac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La Vieille Vill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Le Bâtiment des Nations Unies et le Musée de la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Croix-Roug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Carou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Parc du Bastion et la Place Neuv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Pâquis et Les Grottes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Marché aux Puces de Plainpalais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Le Salèv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Fêtes et Manifestations Culturel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Monuments: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Mur des Réformateurs, l'Horloge Fleurie, le Monument Brunswick, le Jet d'eau et le Palais des Nations, La Cathédrale Saint-Pierre, le Musée international de la Réfor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56894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Jet d’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8" name="800px-Genf_Cathédrale_St-Pierre" descr="Fichier:Genf Cathédrale St-Pier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692280"/>
            <a:ext cx="3888000" cy="291456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4643280" y="189000"/>
            <a:ext cx="5689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thédrale Saint-Pier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rg_hi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2905200" cy="28083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755640" y="4797360"/>
            <a:ext cx="5689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âtiment des Nation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ies et le Musée de la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roix-Rou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400px-Jet-d%27eau-Genève" descr="Fichier:Jet-d'eau-Genève.jpg"/>
          <p:cNvPicPr/>
          <p:nvPr/>
        </p:nvPicPr>
        <p:blipFill>
          <a:blip r:embed="rId4"/>
          <a:stretch/>
        </p:blipFill>
        <p:spPr>
          <a:xfrm>
            <a:off x="971640" y="836640"/>
            <a:ext cx="279720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1042560" y="333000"/>
            <a:ext cx="5111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rou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4" name="carouge" descr="Carouge, Suiza"/>
          <p:cNvPicPr/>
          <p:nvPr/>
        </p:nvPicPr>
        <p:blipFill>
          <a:blip r:embed="rId1"/>
          <a:stretch/>
        </p:blipFill>
        <p:spPr>
          <a:xfrm>
            <a:off x="1042920" y="907920"/>
            <a:ext cx="3600360" cy="25210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3527280" y="4770360"/>
            <a:ext cx="5616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rché aux puces de Plainpalai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media-12125" descr="4966_1120855114513_1621127854_322301_5478568_n.jpg"/>
          <p:cNvPicPr/>
          <p:nvPr/>
        </p:nvPicPr>
        <p:blipFill>
          <a:blip r:embed="rId2"/>
          <a:stretch/>
        </p:blipFill>
        <p:spPr>
          <a:xfrm>
            <a:off x="395280" y="3716280"/>
            <a:ext cx="3024360" cy="2800440"/>
          </a:xfrm>
          <a:prstGeom prst="rect">
            <a:avLst/>
          </a:prstGeom>
          <a:ln w="0">
            <a:noFill/>
          </a:ln>
        </p:spPr>
      </p:pic>
      <p:pic>
        <p:nvPicPr>
          <p:cNvPr id="557" name="il_fi" descr=""/>
          <p:cNvPicPr/>
          <p:nvPr/>
        </p:nvPicPr>
        <p:blipFill>
          <a:blip r:embed="rId3"/>
          <a:stretch/>
        </p:blipFill>
        <p:spPr>
          <a:xfrm>
            <a:off x="5219640" y="981000"/>
            <a:ext cx="3086280" cy="21369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148360" y="333360"/>
            <a:ext cx="5111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ieille-vil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ffffcc"/>
                </a:solidFill>
                <a:uFillTx/>
                <a:latin typeface="Tahoma"/>
              </a:rPr>
              <a:t>L´impératrice Siss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60" name="il_fi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7512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Comment arriver à Genève 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 avion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ar la rou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 train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468360" y="394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Comment se déplacer dans la ville ?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 rot="20838000">
            <a:off x="493200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 rot="555600">
            <a:off x="6227280" y="4797000"/>
            <a:ext cx="2190960" cy="1644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Où dormir 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Classe budg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Les Arcad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Lid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St Gerva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Classe moyen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Admi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Capito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Des Alp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Hotel busi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Mövenpick Hotel &amp; Casino Genev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Plein aux 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e Mandarin Orient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5:06:16Z</dcterms:created>
  <dc:creator>SOFIA ANTOGNINI</dc:creator>
  <dc:description/>
  <dc:language>en-US</dc:language>
  <cp:lastModifiedBy>Usuario</cp:lastModifiedBy>
  <dcterms:modified xsi:type="dcterms:W3CDTF">2011-04-07T17:43:58Z</dcterms:modified>
  <cp:revision>9</cp:revision>
  <dc:subject/>
  <dc:title>Où est situé le pays choisi? </dc:title>
</cp:coreProperties>
</file>